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E916-7FB9-4981-A04F-225432A697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D4E4-75A9-4A55-9E0E-B002F53C32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BA84-6714-4504-8D02-BC28959D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B1A-8634-44B3-A6CC-CBC4BDF2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BEB9-3089-4B12-8A35-B52CB724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0FE-CD3F-43A0-B2A5-854B6C27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B016-80DD-43EC-AA66-ED45C2A1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843-9DBE-41D3-AA58-62A3D045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CB9-6813-4209-84F8-085602BD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1513-B3F5-49CC-A8FF-FF661D6C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566-7241-4002-A070-8F476684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A72D-BBC4-4300-BAB3-C919CEC5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EC6-6BB6-4293-BBC4-EED653BC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381C-BDAF-4683-AA7A-B9734BB4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ento projekt je financován z prostředků ESF prostřednictvím Operačního programu Lidské zdroje a zaměstnanost a státního rozpočtu Č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332E-BCBC-4363-8840-C823C6B62E9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arevné logo pro záhlaví ESF"/>
          <p:cNvPicPr/>
          <p:nvPr/>
        </p:nvPicPr>
        <p:blipFill>
          <a:blip r:embed="rId1"/>
          <a:stretch/>
        </p:blipFill>
        <p:spPr>
          <a:xfrm>
            <a:off x="900000" y="260280"/>
            <a:ext cx="7382160" cy="819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008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ámky: 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  obrázek s logy je třeba umístit do záhlaví každého slidu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  do prezentace není možno umístit loga jiných subje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1"/>
          <p:cNvSpPr/>
          <p:nvPr/>
        </p:nvSpPr>
        <p:spPr>
          <a:xfrm>
            <a:off x="468360" y="6245280"/>
            <a:ext cx="820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nto projekt je financován z prostředků ESF prostřednictvím Operačního programu Lidské zdroje </a:t>
            </a:r>
            <a:br>
              <a:rPr sz="1100"/>
            </a:b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a zaměstnanost a státního rozpočtu Č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09:00Z</dcterms:created>
  <dc:creator>pekarj</dc:creator>
  <dc:description/>
  <dc:language>en-US</dc:language>
  <cp:lastModifiedBy>MPSV123</cp:lastModifiedBy>
  <dcterms:modified xsi:type="dcterms:W3CDTF">2013-11-21T11:24:03Z</dcterms:modified>
  <cp:revision>3</cp:revision>
  <dc:subject/>
  <dc:title>Poznámka: obrázek s logy je třeba umístit do záhlaví každého slidu</dc:title>
</cp:coreProperties>
</file>